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BF89-C1F5-4FDF-AC89-045A4D6EB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CC58-324F-45F4-92AA-773656047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7363-CBC5-4B77-9AB4-9B6A383DE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6406-1975-4C0B-A644-261E585C7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C11-5488-4F45-AD06-41D6426E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FC3-27DA-4F6C-8B92-CE601B3F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BE486-0D40-4DC8-9569-3747784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E1824-21DB-4455-A725-A7E9BE53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F180B-EBA1-49B1-9AB3-30587CE8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FF266-6318-4CAF-9811-E1F1C89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3E19C-7ABA-4260-AD0F-B1E2293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419C1-895C-459A-A2AE-B8D78B2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85036-E9D6-49AD-B7CB-EFDA13B0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C1096-BBC8-4170-BFBF-CBE0252D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38D77-7C83-440C-9E5A-09306AF9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8A5BF-E2B4-41D0-9053-0C561720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CFB-B971-48FF-B95D-EE6F8F5A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F3A13-A267-426D-9C48-2BA2CB7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C1B14-7988-4A0D-BF9B-998ACDA9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2F6AB-5E6F-4D8A-8140-8EAD30F0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0B53C-0CAF-42B8-A511-7C7DD23C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F356F-9E8F-421D-B842-C0476A33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080B7-8D3E-4580-9892-83C5A7D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6C2E7-BA63-46A8-95F7-CAAECF98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62FB6-89EC-4BFF-99A9-44319F7D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AB2E1-CCC2-4B54-820E-0F90C3EA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9F3A6-421C-4799-91B7-F414B4C9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B97-6364-409D-AA52-F3EDE85D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8C10D-FA80-42C9-94E0-B374CB63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2A4CA-055B-4180-9370-B1585FA4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DB077-9AAA-441F-9336-1CBFE3F2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3BD95-87D0-4A00-8274-A7E57156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165F5-FD7A-484A-B086-DE416DA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3D186-A005-476B-B416-DD93C621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72ACE-B283-45ED-9DAB-A4D1AD4D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BA047-99E0-475B-A523-335982C2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F5ECE-BE2F-4E66-975A-338D2E3A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FEC31-DB98-48FE-BE43-EA53338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B1D6-18A2-4A41-9392-36C08F53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6AED8-9DBD-4739-903F-A28BE03A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1485A-E37C-42AF-A7F3-FF0B6814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BBFD9-9568-4AF1-AAFF-63262CF5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4410B-9D6D-4BBC-8DF1-FB8DB8FE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A0FDB-B5E3-4EAC-BA97-72DCC916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00F95-FD78-46D5-9F19-1D520B91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DC6C2-C73D-45D3-B69B-4EB1C488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2B94E-1F48-4ABD-9BD5-C9E9B799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1C3A7-4862-4ACA-81B6-0244BE0E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B1B13-A7E6-42D7-8408-3DEAC465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56DF-6952-45D4-8073-14156786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2D3FF-D979-46C2-A6FB-63F460A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BD099-31A0-46A9-A5F0-1B25CF8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023C4-95A1-4387-9B8E-BA95FF24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3C3EC-AC7B-4823-81B2-23970B9A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F35F0-C490-42F6-892C-A20D006D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4650-AA41-4720-A111-E68AA440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305D-AC15-4E82-89AF-F9E07B2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041B-852F-4318-B5B9-A4A87452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9E0D-D2F3-45E5-8384-4F89F6C6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8FCC-1427-4A3C-B149-0C69102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F32-EF94-4D2E-B1EA-6FC76BC5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94F2-4BFD-411F-9509-6F5856F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D28-25AF-4AD8-A550-FD903D76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4845-C790-4CD8-A65A-BED7E2BE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1911-6158-4500-97F8-53155629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92E7-5C15-4F0A-AA65-A8CF951C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7F02-07BB-4F7B-9929-76BB88ED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FC62-858E-4F2F-98AB-8D314C92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B698-D6AE-4223-BE79-B5CE6C30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E2FE-893C-4A1B-858B-6B7B4D19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9916-1D97-4E75-A5CB-A3F39997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411-8195-4612-8854-6DA95202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6CD0-B2E0-416E-9FD7-13F9CE32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2E39-E877-4A10-BBFB-50728FD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596E-E8FB-4FDD-9BEB-D660E2B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B9B2-FB96-4611-9EDD-DE74E84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D2C1-72A0-4461-8C37-B5D02AE2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0ED0D-3A2F-49C2-849B-F138C4F0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FAD8-6DBD-44AC-B48B-5EC09028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A6CB-27AD-4B60-B8B9-1390B053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FD22-79C1-4C7F-A1F3-1DDB9FEA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055BC-F13F-4FE1-A998-832AE67C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FD0-F24F-4E6C-A844-24AFC6EE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A3CE4-0EE5-42B3-9745-28EF02F8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B72F0-1A86-4614-82A0-23BA711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1403-BA52-4103-B3DF-CFB9C0DD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78B62-8A1F-4FB1-91C9-10AA8481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28F72-67D5-4527-966B-7FBE8FF2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CF30-4C01-44F4-8CB3-880AC67F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7254-7382-457D-891E-1A27376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F62C-6A9A-45B3-A363-7EC355F4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AD8F-16DE-4F93-90FA-D528715F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16B6-9A30-46B5-B945-2121F5BF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37E-92EC-4EFC-9342-189DDE4F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CFF4-16A6-49E6-9E33-4E6ABBC8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D8B4-448C-4EC7-853A-699A4432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A85DD-AECB-4E2A-9D8F-2E3FA5FE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E4A6C-AFFC-41B8-800A-EA4EBD9A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1D97E-AB67-408B-8D0B-D65A34B4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FD0F2-FD2B-4D36-8A71-1FB2BBE9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3C4CF-E7EA-4B63-9A40-425C10E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87AB0-A55F-4D29-918C-9B7E04A1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67BEE-9822-495F-8A8A-232005B1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5987-58B4-4857-B8E3-0D859863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E5B-1B04-4839-84E1-16E4BA55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B7256-A38D-4FCE-81FA-0BB9856C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9643-2695-4730-BE12-41850D9F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A2F11-66EE-4199-8501-243A0EEC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9A98-1662-458C-98F9-8BD360BD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E17CF-EF0F-4B87-AFCF-3DDDB77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61496-E7FF-4023-868F-0A354208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FE6A1-4477-44B9-B4C7-9E0003A0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F8790-92F5-42F4-AFB7-3FF1AF1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B4D95-2FA1-4D3C-9E74-E46F23E5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7AA3F-981B-4DD4-81A2-32AF2B1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D8E-C9CA-4625-8481-20CC5E8F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449C9-25E2-4EE6-AB5F-926A92C5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E555-34B8-4EF9-B2EA-7C7BB62C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5423-95F8-4233-93E6-FE827B18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51A4-60E4-450C-817D-98C51271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FF987-4818-4C6A-9620-D32E1057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1C17-F866-419A-ADC0-0CDF9545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A2EAC-FD70-4978-AFDC-A538DE2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6E005-81E6-4A62-9850-00045176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CC6D-4CCB-4499-B1B0-CB011DC3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B68F-A763-4B58-8D1D-9580FA15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10C-1FBF-4B78-BA11-B20F8415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FC333-A253-4221-8663-33DF0EC2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50E54-62D2-433F-9C46-1CDE266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FD4D9-F4D8-4B84-9E50-E98EF1B1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E493-6B83-49DA-814F-40278F16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B4585-F1EF-4279-8DB9-EB3D87A3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F3189-BD6E-4E2E-B619-91C89DEF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D529C-8064-4754-8DC4-AEF32322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66DA-D0F2-47EF-8131-A9549E2D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7CAF7-CF95-43B3-922B-0F495CA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37535-9C7F-4B4C-BA1E-96F17269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73D-B1E9-463C-B953-283F1D18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00D52-DC71-4E76-8DBF-AC91E0B1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03DB6-01D5-4DF0-ABD4-4E1FED8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FCF09-BE6A-4149-A9DB-B98DC99A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63045-FB07-4435-8BAC-B63C219C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A0BCC-2597-4C0C-9BA2-D92E1367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D7ACE-C1BF-4E58-AC84-2D6EF235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53359-EC44-4814-96CF-D3F032B3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E8BB9-8C67-478B-BE59-66BA6597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29BBD-07A3-4A4E-80A4-BCB2E624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20D20-A80A-49C7-9F85-D33E893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A4A-2F0D-401F-B356-21B0EBF92F0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FEE9A05-1E35-4A16-A938-BE76C069D63D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7A6-1C57-4B67-AEBD-104672F07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76E0-6A48-4A26-8F27-4C430A105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B64-E68D-4ACA-9433-EA5317F3765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4666039-6CD8-4B7C-8E14-6D7AE14474B9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0DB1-E3A3-40C7-8536-8B0A8743C88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C4F1C15-E491-492E-9B6F-8E1A557CACE0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BFC6-62A9-43ED-891C-D941A71BA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F102-E58A-491D-BEC1-082BDD7D7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5B94-3806-4A42-8408-AC170618A6D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CCDF737-72D6-4BFF-8045-42DF255FE501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174F-5E3C-435A-BB0C-C70DBF2A6FD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2CA5B13-1EFD-4A91-BB14-744690EA6B24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11D6-49F4-45B9-BF58-5E8FC2E4F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6044-14B7-4F2B-B486-574925E2B91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9621299-D7E7-47B8-9753-2DEA44A352AE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9D73-225B-4C06-B543-23C153C20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9A44-42B2-47F0-BE81-06929BB7FBF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9341923-71D4-49DA-BCD3-83A41E1DC1EC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D9F8-FE6A-4D6C-BFCE-5541E764C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A408-312F-4B81-AFE2-0DF762258ED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39CE26E-A880-4FAD-908D-F05A79093AB1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C8B9-2500-4A6A-AD08-64875B0ADB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7005-E3C1-497D-9A49-3EF7A73EE50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22B717D-234D-42FE-B342-94B09C3D642B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EDD5-6A09-43F4-AA61-E361A3352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9AFD-F3D8-4343-8F0A-A4F572AFF02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371AAFD-1ADB-4410-A7E4-4911041CBB25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46C1-A096-406B-83C3-C721E74BD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6E7B-9F7C-4796-81EB-14F2311D043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4B59167-A54B-4F67-BDB5-E5C0014E1D0E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9EB1-FE1B-4EB1-BD68-94575DBDAC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DD07-269A-471A-B915-DB7808661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D1CC-F34C-46C0-B9C5-748A41EA108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4E69824-9A78-42E9-A587-C632C7AAFFA9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90360" y="5562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STAYCLE DUPLICH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HTTP://STAYCLE.WIKISPACES.COM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EXCEL Formulas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October 13, 2011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ARTS OF A WORKSHEET/SPREADSHEET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-152280" y="1452600"/>
            <a:ext cx="899136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mula Symbo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+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di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trac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ltiplic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/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vi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^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ponenti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+ add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lt;&gt;not equal 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 greater tha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gt;=greater than or equal 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lt; less tha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lt;=less than or equal 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2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93400" indent="-293400">
              <a:spcBef>
                <a:spcPts val="2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3,99,-47)"/>
                                      </p:to>
                                    </p:set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3,99,-47)"/>
                                      </p:to>
                                    </p:set>
                                    <p:set>
                                      <p:cBhvr>
                                        <p:cTn id="8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der of Op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28600" y="1142640"/>
            <a:ext cx="8577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y operations that are in parentheses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om left to righ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onentiation (^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ltiplication (*) and division (/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ition (+) and subtraction (-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6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048040" cy="2305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2971800" y="1066680"/>
            <a:ext cx="2049480" cy="228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ne Way To Construct a Formul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204804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5" name="Picture 8" descr=""/>
          <p:cNvPicPr/>
          <p:nvPr/>
        </p:nvPicPr>
        <p:blipFill>
          <a:blip r:embed="rId4"/>
          <a:stretch/>
        </p:blipFill>
        <p:spPr>
          <a:xfrm>
            <a:off x="228600" y="3886200"/>
            <a:ext cx="2666880" cy="238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6" name="Picture 9" descr=""/>
          <p:cNvPicPr/>
          <p:nvPr/>
        </p:nvPicPr>
        <p:blipFill>
          <a:blip r:embed="rId5"/>
          <a:stretch/>
        </p:blipFill>
        <p:spPr>
          <a:xfrm>
            <a:off x="4800600" y="3962520"/>
            <a:ext cx="2104920" cy="233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7" name="TextBox 11"/>
          <p:cNvSpPr/>
          <p:nvPr/>
        </p:nvSpPr>
        <p:spPr>
          <a:xfrm>
            <a:off x="1522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lick in any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2590920" y="34290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Begin with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4724280" y="3429000"/>
            <a:ext cx="42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rite function and open pare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4"/>
          <p:cNvSpPr/>
          <p:nvPr/>
        </p:nvSpPr>
        <p:spPr>
          <a:xfrm>
            <a:off x="468720" y="63244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Highligh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5"/>
          <p:cNvSpPr/>
          <p:nvPr/>
        </p:nvSpPr>
        <p:spPr>
          <a:xfrm>
            <a:off x="3962520" y="6324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lose parenthesis and ent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1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3830400" cy="327672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nother Way To Calculate A Formul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267080" cy="3506760"/>
          </a:xfrm>
          <a:prstGeom prst="rect">
            <a:avLst/>
          </a:prstGeom>
          <a:ln w="0">
            <a:noFill/>
          </a:ln>
        </p:spPr>
      </p:pic>
      <p:pic>
        <p:nvPicPr>
          <p:cNvPr id="635" name="Straight Arrow Connector 8" descr=""/>
          <p:cNvPicPr/>
          <p:nvPr/>
        </p:nvPicPr>
        <p:blipFill>
          <a:blip r:embed="rId3"/>
          <a:stretch/>
        </p:blipFill>
        <p:spPr>
          <a:xfrm>
            <a:off x="5565600" y="429084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636" name="TextBox 9"/>
          <p:cNvSpPr/>
          <p:nvPr/>
        </p:nvSpPr>
        <p:spPr>
          <a:xfrm>
            <a:off x="472428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um of Test 2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Straight Arrow Connector 4" descr=""/>
          <p:cNvPicPr/>
          <p:nvPr/>
        </p:nvPicPr>
        <p:blipFill>
          <a:blip r:embed="rId4"/>
          <a:stretch/>
        </p:blipFill>
        <p:spPr>
          <a:xfrm>
            <a:off x="7547040" y="950760"/>
            <a:ext cx="304560" cy="755640"/>
          </a:xfrm>
          <a:prstGeom prst="rect">
            <a:avLst/>
          </a:prstGeom>
          <a:ln w="0">
            <a:noFill/>
          </a:ln>
        </p:spPr>
      </p:pic>
      <p:sp>
        <p:nvSpPr>
          <p:cNvPr id="638" name="TextBox 11"/>
          <p:cNvSpPr/>
          <p:nvPr/>
        </p:nvSpPr>
        <p:spPr>
          <a:xfrm>
            <a:off x="304920" y="16002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will app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highlight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mportant Inform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Does not matter if formula is written in caps or lower c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(cell:cell) all of the data from first cell to last ce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(cell,cell) the data from first cell and last cell on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A formula can be dragged instead of typing it in every cel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how Formul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01040" cy="1400400"/>
          </a:xfrm>
          <a:prstGeom prst="rect">
            <a:avLst/>
          </a:prstGeom>
          <a:ln w="0">
            <a:noFill/>
          </a:ln>
        </p:spPr>
      </p:pic>
      <p:sp>
        <p:nvSpPr>
          <p:cNvPr id="643" name="Oval 4"/>
          <p:cNvSpPr/>
          <p:nvPr/>
        </p:nvSpPr>
        <p:spPr>
          <a:xfrm>
            <a:off x="7543800" y="2590920"/>
            <a:ext cx="12193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6"/>
          <p:cNvSpPr/>
          <p:nvPr/>
        </p:nvSpPr>
        <p:spPr>
          <a:xfrm>
            <a:off x="762120" y="2590920"/>
            <a:ext cx="1066680" cy="6858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00:36Z</dcterms:created>
  <dc:creator/>
  <dc:description/>
  <dc:language>en-US</dc:language>
  <cp:lastModifiedBy/>
  <dcterms:modified xsi:type="dcterms:W3CDTF">2011-10-13T15:40:17Z</dcterms:modified>
  <cp:revision>2</cp:revision>
  <dc:subject/>
  <dc:title>EXCEL BASICS MARCH 24,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